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5C8-CE92-43BC-A2DA-FB40426F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3A3-E63E-41D8-872D-FAFE124A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B03-3D21-4828-B663-1C2614C8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9C2-0DF6-46FA-8CE9-A5CC2D42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5D5-4108-44C8-8468-56457E8E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5CF-ECC8-4C73-9AB7-F17831B5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E49-CA3F-4F1A-A9B3-CD8A17FB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ECC-63B5-432B-BA3E-4284C89A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E54-E8D5-4ACB-B033-1273D6A9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20C-AA04-4CA8-BB2B-5A79AAB7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D7A-918C-4291-83A6-15DA45FF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07B-DC7C-4984-A1A8-9FB01AA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3DE0-6826-4B54-9524-4EF18CC71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2050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03640" y="3141720"/>
            <a:ext cx="2663640" cy="2520720"/>
            <a:chOff x="3203640" y="3141720"/>
            <a:chExt cx="2663640" cy="2520720"/>
          </a:xfrm>
        </p:grpSpPr>
        <p:sp>
          <p:nvSpPr>
            <p:cNvPr id="48" name=""/>
            <p:cNvSpPr/>
            <p:nvPr/>
          </p:nvSpPr>
          <p:spPr>
            <a:xfrm>
              <a:off x="3203640" y="3141720"/>
              <a:ext cx="2663640" cy="252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35280" y="4941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11640" y="379080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0720" y="4941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51280" y="4509720"/>
              <a:ext cx="136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00360" y="4509720"/>
              <a:ext cx="0" cy="11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349360"/>
            <a:ext cx="0" cy="345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205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end of this lesson you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306864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distance form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65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39337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Use the formula to work out simply distance calc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81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6880" y="1924200"/>
            <a:ext cx="81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magine you were travelling in a train at a stead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f 80km/h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2600" y="296064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 1 hour you travel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23840" y="3506760"/>
            <a:ext cx="28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 2 hours you travel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23840" y="4011480"/>
            <a:ext cx="28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 3 hours you travel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4754520"/>
            <a:ext cx="44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n you guess what the formula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55520" y="2960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091"/>
                </a:solidFill>
                <a:latin typeface="Comic Sans MS"/>
                <a:ea typeface="Arial"/>
              </a:rPr>
              <a:t>80 x 1 = 8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59840" y="350676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091"/>
                </a:solidFill>
                <a:latin typeface="Comic Sans MS"/>
                <a:ea typeface="Arial"/>
              </a:rPr>
              <a:t>80 x 2 = 16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0720" y="401148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091"/>
                </a:solidFill>
                <a:latin typeface="Comic Sans MS"/>
                <a:ea typeface="Arial"/>
              </a:rPr>
              <a:t>80 x 3 = 24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5445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e = Speed  x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13040" y="5445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54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S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771640" y="2421000"/>
            <a:ext cx="1801800" cy="1504800"/>
            <a:chOff x="2771640" y="2421000"/>
            <a:chExt cx="1801800" cy="1504800"/>
          </a:xfrm>
        </p:grpSpPr>
        <p:sp>
          <p:nvSpPr>
            <p:cNvPr id="107" name=""/>
            <p:cNvSpPr/>
            <p:nvPr/>
          </p:nvSpPr>
          <p:spPr>
            <a:xfrm>
              <a:off x="2771640" y="2421000"/>
              <a:ext cx="1801800" cy="1504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62520" y="3493440"/>
              <a:ext cx="34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54200" y="2808360"/>
              <a:ext cx="43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3760" y="3493440"/>
              <a:ext cx="33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09400" y="3237480"/>
              <a:ext cx="925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48600" y="3237480"/>
              <a:ext cx="0" cy="68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9840" y="1916280"/>
            <a:ext cx="81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magine you were travelling in a train at a stead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f 80km/h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285264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292640"/>
            <a:ext cx="172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S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80 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 8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8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59280" y="2492280"/>
            <a:ext cx="1514160" cy="1435320"/>
            <a:chOff x="3059280" y="2492280"/>
            <a:chExt cx="1514160" cy="1435320"/>
          </a:xfrm>
        </p:grpSpPr>
        <p:sp>
          <p:nvSpPr>
            <p:cNvPr id="125" name=""/>
            <p:cNvSpPr/>
            <p:nvPr/>
          </p:nvSpPr>
          <p:spPr>
            <a:xfrm>
              <a:off x="3059280" y="2492280"/>
              <a:ext cx="1514160" cy="14353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03720" y="351612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3840" y="2862000"/>
              <a:ext cx="36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02120" y="3516120"/>
              <a:ext cx="2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7200" y="3271320"/>
              <a:ext cx="777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96200" y="3271320"/>
              <a:ext cx="0" cy="65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5760" y="1916280"/>
            <a:ext cx="713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ar is travelling at 50 mph. how far will it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fter 3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285264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4221000"/>
            <a:ext cx="23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S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50 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 1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150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19280" y="3284640"/>
            <a:ext cx="2019240" cy="1800000"/>
            <a:chOff x="1619280" y="3284640"/>
            <a:chExt cx="2019240" cy="1800000"/>
          </a:xfrm>
        </p:grpSpPr>
        <p:sp>
          <p:nvSpPr>
            <p:cNvPr id="143" name=""/>
            <p:cNvSpPr/>
            <p:nvPr/>
          </p:nvSpPr>
          <p:spPr>
            <a:xfrm>
              <a:off x="1619280" y="3284640"/>
              <a:ext cx="2019240" cy="1800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44000" y="4568760"/>
              <a:ext cx="38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5720" y="3748320"/>
              <a:ext cx="49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6760" y="4568760"/>
              <a:ext cx="37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09960" y="4261320"/>
              <a:ext cx="1037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02080" y="4261320"/>
              <a:ext cx="0" cy="822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9440" y="1916280"/>
            <a:ext cx="75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arah travels to school by bike at an average sp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f 12 mph   how far  is the school if it 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 hours to get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4221000"/>
            <a:ext cx="143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4221000"/>
            <a:ext cx="23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= S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= 12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= 2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 24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5661000"/>
            <a:ext cx="1081080" cy="1027440"/>
            <a:chOff x="0" y="5661000"/>
            <a:chExt cx="1081080" cy="1027440"/>
          </a:xfrm>
        </p:grpSpPr>
        <p:sp>
          <p:nvSpPr>
            <p:cNvPr id="161" name=""/>
            <p:cNvSpPr/>
            <p:nvPr/>
          </p:nvSpPr>
          <p:spPr>
            <a:xfrm>
              <a:off x="0" y="566100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4600" y="638136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9680" y="592092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3200" y="638136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800" y="620892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6320" y="620892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2492280"/>
            <a:ext cx="496728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2708280"/>
            <a:ext cx="4535640" cy="1441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29242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3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 Q2, Q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4581360"/>
            <a:ext cx="453564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7640" y="465300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3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2349360"/>
            <a:ext cx="165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0091"/>
                </a:solidFill>
                <a:latin typeface="Arial"/>
              </a:rPr>
              <a:t>What do you s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What_can_you_see_6.gif"/>
          <p:cNvPicPr/>
          <p:nvPr/>
        </p:nvPicPr>
        <p:blipFill>
          <a:blip r:embed="rId2"/>
          <a:stretch/>
        </p:blipFill>
        <p:spPr>
          <a:xfrm>
            <a:off x="1979640" y="1844640"/>
            <a:ext cx="5943600" cy="445788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9-01-09T20:42:24Z</dcterms:modified>
  <cp:revision>15</cp:revision>
  <dc:subject/>
  <dc:title>Slide 1</dc:title>
</cp:coreProperties>
</file>